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80513" cy="6875463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F5E-DE8B-4A60-A68F-02DBFADF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659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6596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6596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BE9-ABB1-4CC5-B81D-05C17B13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659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3344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240" y="1604880"/>
            <a:ext cx="403344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3344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240" y="3975480"/>
            <a:ext cx="403344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BBF-64C4-4D45-965C-4460F3F2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659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6148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880" y="1604880"/>
            <a:ext cx="266148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560" y="1604880"/>
            <a:ext cx="266148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6148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880" y="3975480"/>
            <a:ext cx="266148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560" y="3975480"/>
            <a:ext cx="266148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C8A-A309-4827-8B1E-FD5248B6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659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6596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422-B667-4CCA-9C8B-AE9B001B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659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65960" cy="453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C31-D239-415C-B18B-5106AABF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659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33440" cy="453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240" y="1604880"/>
            <a:ext cx="4033440" cy="453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381-B84C-49ED-81BF-8FF698B5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659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9C5-1F6A-40E6-9FFB-819D5989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6596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B388-302F-4785-B902-1C3AF803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659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3344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240" y="1604880"/>
            <a:ext cx="4033440" cy="453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3344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4A0-2B48-43D3-8DE9-1CDDD6A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659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33440" cy="453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240" y="1604880"/>
            <a:ext cx="403344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240" y="3975480"/>
            <a:ext cx="403344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C4E-A646-466B-B6AA-90E22EEA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659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3344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240" y="1604880"/>
            <a:ext cx="403344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65960" cy="216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A4F-962E-4A3C-B41B-EF4F0EB6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659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65960" cy="453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208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208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208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62560"/>
            <a:ext cx="2144880" cy="478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7040" y="6262560"/>
            <a:ext cx="2906640" cy="478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8280" y="6262560"/>
            <a:ext cx="2144520" cy="478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5597E1F-5DB9-481B-B7E7-294D69993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5640" y="269640"/>
            <a:ext cx="8266320" cy="43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хе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заимодействия органов исполнительной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4480" y="1002960"/>
            <a:ext cx="9065520" cy="5600880"/>
            <a:chOff x="114480" y="1002960"/>
            <a:chExt cx="9065520" cy="5600880"/>
          </a:xfrm>
        </p:grpSpPr>
        <p:sp>
          <p:nvSpPr>
            <p:cNvPr id="43" name=""/>
            <p:cNvSpPr/>
            <p:nvPr/>
          </p:nvSpPr>
          <p:spPr>
            <a:xfrm>
              <a:off x="573480" y="4546080"/>
              <a:ext cx="4704840" cy="914400"/>
            </a:xfrm>
            <a:prstGeom prst="upArrowCallout">
              <a:avLst>
                <a:gd name="adj1" fmla="val 128644"/>
                <a:gd name="adj2" fmla="val 128632"/>
                <a:gd name="adj3" fmla="val 16667"/>
                <a:gd name="adj4" fmla="val 666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формация о пенсионерах и семьях пенсионеров и о численном составе домохозяйст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50840" y="5689440"/>
              <a:ext cx="160632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рган социальной защи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480" y="5689440"/>
              <a:ext cx="172116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рг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енсионного фон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72000" y="5689440"/>
              <a:ext cx="218016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рг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егистрационного уче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81840" y="3288960"/>
              <a:ext cx="309816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сполнитель коммунальн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услу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6640" y="3403440"/>
              <a:ext cx="3098160" cy="1028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ОМС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81840" y="5460480"/>
              <a:ext cx="309816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миссия по определению ветхого и аварийного жи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60320" y="1460160"/>
              <a:ext cx="1606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868480" y="2031840"/>
              <a:ext cx="1080" cy="137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7573320" y="2031840"/>
              <a:ext cx="1080" cy="125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7688160" y="4432320"/>
              <a:ext cx="1440" cy="1028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75160" y="3860640"/>
              <a:ext cx="16063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03000" y="2489040"/>
              <a:ext cx="1262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нформац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 ветхом жиль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17840" y="4812840"/>
              <a:ext cx="126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нформац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 ветхом жиль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44000" y="2031840"/>
              <a:ext cx="1080" cy="125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45840" y="2031840"/>
              <a:ext cx="21801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Единая база данных с информацией о пенсионерах и семьях пенсионеров, о численном составе домохозяйст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1160" y="2489040"/>
              <a:ext cx="9180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278320" y="15746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8640" y="2374560"/>
              <a:ext cx="218016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аза данных с информацией о пенсионерах и семьях пенсионеров, о численном составе домохозяйст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83680" y="2489040"/>
              <a:ext cx="1261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дресная база данны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61800" y="1002960"/>
              <a:ext cx="3098160" cy="1028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полномоченный орган государственной в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67000" y="1002960"/>
              <a:ext cx="3098160" cy="1028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ГП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3" descr=""/>
          <p:cNvPicPr/>
          <p:nvPr/>
        </p:nvPicPr>
        <p:blipFill>
          <a:blip r:embed="rId1"/>
          <a:stretch/>
        </p:blipFill>
        <p:spPr>
          <a:xfrm>
            <a:off x="2414520" y="198360"/>
            <a:ext cx="4408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2125800" y="343080"/>
            <a:ext cx="4929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4:36:28Z</dcterms:created>
  <dc:creator>Bill Gates</dc:creator>
  <dc:description/>
  <dc:language>en-US</dc:language>
  <cp:lastModifiedBy>андрей</cp:lastModifiedBy>
  <cp:lastPrinted>2013-02-27T08:18:15Z</cp:lastPrinted>
  <dcterms:modified xsi:type="dcterms:W3CDTF">2013-09-06T05:03:52Z</dcterms:modified>
  <cp:revision>860</cp:revision>
  <dc:subject/>
  <dc:title>Слайд 1</dc:title>
</cp:coreProperties>
</file>